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DC21-7A2A-48A7-957E-98222808A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66D6-2F25-4A4A-ACBB-E0E06423B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78E3-7EAE-448B-80E4-E3F3992F4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94C7-2F7B-4E9A-A984-0D3301EE7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A8D5-9DA5-40A7-A5AF-746C2C426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E924-1FC5-4ABD-A5DE-7263DA45E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3EC7-74CC-4BE2-B66D-AE39CD4F3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1310-454B-46C7-B048-8A1FE9063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6E2F-2672-4A88-A7E1-328A75ACA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5DCC-AA41-4603-ABC8-442680E6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9C6A-0DBB-414A-A33A-6476EA13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4E12-AABE-49E6-9F24-910D1A48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1330C-2703-480D-8BB0-4BA4848993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ce Processing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nathan Rosenbe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sco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draft represents the bottom half of the previous data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 things PUA and servers DO as opposed to what data m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w other changes to this document besides the spl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sue #1: Composing unknown attribu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thing compositor can do is select one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ther choice may not be schema compli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ive: define an &lt;ambigous&gt; element to encapsulate different valu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 #2: Overr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need to define how this is don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re are two services/persons/devices with same INSTANCE ID, take the most recent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wise, override is dictated by composition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 #3: Ly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raft models this as composition policy, b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un composition policy after priv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’t introduce new information after privacy, so ei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-privacy processing isn’t composition policy dr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ying not part of composition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ying is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ource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 Poli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es the set of presence documents considered as input to the processing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ault: all documents with presentity ID matching the u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ying: use a specific fixed doc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iasing: use all documents with presentity IDs matching all known aliases for wat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 policy can be per-watc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sue #4: Computing document for selecting auth poli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orization policy conditions can be based on dynamic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sphere&gt; for 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orization policies can specify composition rules or source policies that define presence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s its circ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break the cir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 1: compute presence doc that would be sent to presentity thems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 2: compute presence doc that would be sent to a special ide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 3: disallow this condition some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opics to add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registration data as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union compos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device information to compute service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ce fed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ing pres vs. SIP URI in various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ations for ali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sioned data, ala call forwarding, as input to com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06:07:42Z</dcterms:created>
  <dc:creator>Jonathan Rosenberg</dc:creator>
  <dc:description/>
  <dc:language>en-US</dc:language>
  <cp:lastModifiedBy>Jonathan Rosenberg</cp:lastModifiedBy>
  <dcterms:modified xsi:type="dcterms:W3CDTF">2005-03-07T06:48:42Z</dcterms:modified>
  <cp:revision>5</cp:revision>
  <dc:subject/>
  <dc:title>Presence Processing Model</dc:title>
</cp:coreProperties>
</file>