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BB8F-F49E-4D4B-A3FB-F5351B88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4A35-96D5-436B-836D-294D92CF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236D-B781-441E-A57C-6373E973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39EE-F8AC-45CE-BC73-50A3F12D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77BB-CCE4-41EF-B032-311DDF61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C995-79B8-4D2C-8666-74C434A5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D4F8-7AB7-45D9-A788-7FA8E442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6FC2-05D3-48F0-AB2A-25107B87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93A6-540C-4AF8-8D07-050A6447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3BC0-512E-4AFE-8512-CD8F7EE3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4FBE-F736-4B0F-A94A-5980EE98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E9C5-1DF4-4E32-8209-EF04A073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9E9F-4CAA-465B-AA43-8DD1B9095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SRP - Base &amp; Re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 62 - Simple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 Campb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len Jen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to MSRP 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P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ed strong advice of mmusic ch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mpt to be more inline with “conventional” SDP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 field changed to msrp/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and port copied to “c=“ and “m=“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RP devices still get address and port from Path attribute--no real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 changed to SDP-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Response 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8 -- Time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13 -- Stop sending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23 -- Parameter out of b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-Success, Report-Failure changed to Success-Report and Failure-Report to ease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"+”, "=”, and "/” in session-id part of URI--makes it easier to embed base64 encod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security consideration language about TLS implications of running peer-to-peer vs. with re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ed up IANA consideration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rious editorial fi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to MSRP Rel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 Changed to Ba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UTH commands return a shared secret in the form of the relay 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not be revealed to attackers so the AUTH MUST be done over T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ide TLS, basic is as strong as digest and easier and faster as there is no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 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Changes to Re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Max-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explanation of multi relay A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organization of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SDP, Response Codes, and URI consistent with base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less Relay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ndix A has non normative text that explains one way that a relay can push most of its state to the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we delete this or leav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15:47:34Z</dcterms:created>
  <dc:creator>Cullen Jennings</dc:creator>
  <dc:description/>
  <dc:language>en-US</dc:language>
  <cp:lastModifiedBy>Cullen Jennings</cp:lastModifiedBy>
  <dcterms:modified xsi:type="dcterms:W3CDTF">2005-03-08T05:57:52Z</dcterms:modified>
  <cp:revision>18</cp:revision>
  <dc:subject/>
  <dc:title>PowerPoint Presentation</dc:title>
</cp:coreProperties>
</file>