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636040" y="6583320"/>
            <a:ext cx="85716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Slide </a:t>
            </a:r>
            <a:fld id="{FB12EA48-D017-4B92-A5C2-0160CC886196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805040" indent="-27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onferencing with MSRP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raft-niemi-simple-chat-02.tx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Miguel Garcia, Aki Niemi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IETF-62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08-March-2005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Draft overview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The draft discusses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400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Requirements for conferences with MSRP media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400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Mechanism to do private messaging: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Proposal for a new DISTSEND MSRP method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Proposal for new MSRP header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400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Nickname representation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400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okia Sans Wide"/>
              </a:rPr>
              <a:t>Usage of Message/CPIM in MSRP conferences</a:t>
            </a:r>
            <a:endParaRPr b="0" lang="en-US" sz="2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Requirement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REQ-4: It must be possible to inform the creator of a session based messaging about the acceptance of the message for distribution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REQ-5: It must be possible to get the time-stamp at which the MSRP switch dispatched a message. 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okia Sans Wide"/>
              </a:rPr>
              <a:t>REQ-6: The message sequence witnessed by different endpoints must be identical across all the participants. 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okia Sans Wide"/>
              </a:rPr>
              <a:t>REQ-7: A conference participant must be able to determine the identity or nickname of the creator of the message. 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REQ-8: A conference participant must be able to determine the target of the received message. For instance, the message might be addressed to the whole conference, a sidebar conference or just the recipient of the message (private message). 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okia Sans Wide"/>
              </a:rPr>
              <a:t>REQ-10: It must be possible to send a message to one or more participants of the conference (private instant message). 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REQ-11: A conference participant may have a nickname or pseudonym associated to him. 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REQ-14: On sending private messages, it might be possible that the creator sends private messages to participants who have only revealed their nickname, but not their routable SIP URI. 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3352680"/>
            <a:ext cx="152280" cy="152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Send a message to all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lice sends a regular SEND request that contains a Message/CPIM document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42800" y="1952640"/>
          <a:ext cx="891396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0" y="1952640"/>
                    <a:ext cx="89139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Send a private message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lice sends a DISTSEND request that contains a Distribution header and Message/CPIM document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42800" y="1952640"/>
          <a:ext cx="891396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0" y="1952640"/>
                    <a:ext cx="89139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Proposed extensions to MSRP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ew DISTSEND method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Endpoint sends a message to the MSRP switch for further distribution to a subset of the participants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Recipient list includes SIP URIs, nicknames, TEL URLs, etc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ew method required to discover inability of the MSRP switch to do private messaging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It always contains a Message/CPIM body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uccessful report for providing a hint of reception at MSRP switch and a hint of the sequence of message in which this message is inserted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0">
              <a:lnSpc>
                <a:spcPct val="8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ew Distribution header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ntains the list of recipients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Recipients can be listed with any format, including an ID (SIP URI, TEL URI) or a nickname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0">
              <a:lnSpc>
                <a:spcPct val="8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ew DateTime header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imilar to the DateTime header in Message/CPIM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Required to get information of the date/time the MSRP switch dispatched a message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void the MSRP switch to open Message/CPIM bodies just to insert it in Message/CPIM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Nickname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nickname is represented as a combination of a Display-Name and a URN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RNs present two interesting properties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-38088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RNs are not routable, just names -&gt; allows some anonymity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-38088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RNs are hierarchical  =&gt; allows to scope the namespace to that of the conference, MSRP switch, etc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0">
              <a:lnSpc>
                <a:spcPct val="8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Nicknames can be learnt from the conference event package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Nicknames can appear in the From, To, and Cc header of Message/CPIM and the Distribution header in MSRP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xample of Nickname in Message/CPIM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rom: "Prince of the snow"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&lt;urn:ietf:params:msrp:nicknames:com:example:switch:johnny&gt;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0">
              <a:lnSpc>
                <a:spcPct val="8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pen issue: how to negotiate nicknames to guarantee uniqueness at least within a conference?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Message/CPIM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rom header contains the ID (SIP URI, TEL URI) or nickname of the creator of the message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o and Cc headers contain a list of visible IDs (SIP URI, TEL URI) or nicknames of the visible recipients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Invisible recipients are not listed in Message/CPIM (but are just indicated in the Distribution header of DISTSEND)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Way to move forward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ral components of the draft may fall into the area of different working groups, dependent on the chosen solution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General behavior of an MSRP switch, including Message/CPIM usage, and usage of reports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XCON + SIMPL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ateTime header in MSRP? =&gt; Simpl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0">
              <a:lnSpc>
                <a:spcPct val="9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nding private messages: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XCON if a generic solution is chosen and if no impacts to MSRP;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therwise, SIMPLE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Nicknames: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P/SIPPING if negotiation of a nickname is done in SIP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MPLE/XCON if we use XCAP to set a nickname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9:10:14Z</dcterms:created>
  <dc:creator>Miguel Garcia</dc:creator>
  <dc:description>Nokia Standard Presentation Template - A4
v. 6 2002/06/12 Juhani Pitkänen
Nokia Corporate Fonts
Provided by: NBI\IMS\ITP\CP\Office Platforms
NBI Owner:  Eric Beasley</dc:description>
  <dc:language>en-US</dc:language>
  <cp:lastModifiedBy>Miguel Garcia</cp:lastModifiedBy>
  <cp:lastPrinted>2000-03-20T15:35:04Z</cp:lastPrinted>
  <dcterms:modified xsi:type="dcterms:W3CDTF">2005-03-07T14:48:38Z</dcterms:modified>
  <cp:revision>26</cp:revision>
  <dc:subject/>
  <dc:title>Conferencing with MSRP</dc:title>
</cp:coreProperties>
</file>