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E42-2F11-4ED6-AD7C-C3C9C54D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301-E126-4265-86C5-E61E038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F6F-569F-4ECD-B5BF-59058E76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69E-6983-4B52-9C9E-A93AB71D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A08-D56B-49D6-8F46-FB6EE18B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C0C-7AEF-4CFE-A4DE-D25B323F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3CD-6C33-4582-8503-F6FDD785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5C2-4882-4767-877A-10BC6146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DA2-EA72-40D3-8C51-0B0C2E7F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4F8-B227-4AB2-A2A2-10D3A302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ABA-CB4B-42B9-AA89-5FA174BD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BE8-BD98-4A06-9111-96D69CA1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CA0F-8C09-4264-AF13-6D58B60B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Rose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authorization policies are expected to be 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proprietary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lient connects to a provider network, how does it know which of the authorization policies it understands are supported by the ser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AP supported namespaces not fine grained enough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1752480"/>
            <a:ext cx="6400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rosenberg-simple-common-policy-caps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733920"/>
            <a:ext cx="6400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rosenberg-simple-pres-policy-caps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4876920"/>
            <a:ext cx="6400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-guenther-geopriv-policy-caps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743200" y="2514240"/>
            <a:ext cx="15238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552720" y="2514600"/>
            <a:ext cx="12193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1880" y="2209680"/>
            <a:ext cx="2297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olicy-capabiliti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ndi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condi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c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ac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ransforma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ransforma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olicy-capabiliti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85840" y="243828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41560" y="201780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80920" y="350532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35920" y="33130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495680" y="4495680"/>
            <a:ext cx="1524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9960" y="43038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ce Policy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capabilities for each of the actions, transformations and conditions in draft-ietf-simple-presence-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0040" y="1523880"/>
            <a:ext cx="714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olicy-capabilities xmlns="urn:ietf:params:xml:ns:policy-capabiliti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ns:cp="urn:ietf:params:xml:ns:policy-capabiliti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ns:vpp="urn:ietf:params:xml:ns:vpp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ns:xsi="http://www.w3.org/2001/XMLSchema-instanc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ndi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dentity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phere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alidity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pp:happy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condi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c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pp:log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ac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ransforma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pp:min-security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ransformatio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olicy-capabiliti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define capabilities for the different values of sub-handling and component-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if an authorization policy is an enumerated type, its capability needs to be a sequence of support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 #2: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schema desig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as working group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34:58Z</dcterms:created>
  <dc:creator>Jonathan Rosenberg</dc:creator>
  <dc:description/>
  <dc:language>en-US</dc:language>
  <cp:lastModifiedBy>Jonathan Rosenberg</cp:lastModifiedBy>
  <dcterms:modified xsi:type="dcterms:W3CDTF">2005-03-08T05:48:51Z</dcterms:modified>
  <cp:revision>3</cp:revision>
  <dc:subject/>
  <dc:title>Policy Capabilities</dc:title>
</cp:coreProperties>
</file>