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2400" y="1104480"/>
            <a:ext cx="860760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XML Patch Operations based on XPath se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800" y="3157200"/>
            <a:ext cx="854064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Jari Urpala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IETF62 Minneapo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8640" y="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&lt;remove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5120" y="1063800"/>
            <a:ext cx="9069480" cy="62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itespac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des somewhat probl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.&lt;remove sel="root/text()[1]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remove sel="root/elem[@a='1']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B.&lt;remove sel="root/text()[1] | root/elem[@a='1']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.&lt;remove sel="root/elem[@a='1']/preceding-sibling::text()[1] | root/elem[@a='1']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oposed model (similar to C, but simpler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ddition to 'sel' an optional whitespace attribute 'ws': "before", "after", "both", "none" [defaul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&lt;remove sel="root/elem[@a='1']" ws="befor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7800" y="341280"/>
            <a:ext cx="947592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DOCTYPE document 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ncname  "[^:\I][^:\C]*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qname   "(&amp;ncname;:)?&amp;ncname;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aname   "@&amp;qname;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pos_t   "\[\d+\]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attr_t  "\[&amp;aname;=('|&amp;quot;)[.\n]*('|&amp;quot;)\]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name_t  "\[(&amp;qname;|\.)=('|&amp;quot;)[.\n]*('|&amp;quot;)\]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cond    "(&amp;attr_t;|&amp;name_t;)?(&amp;pos_t;)?|(&amp;pos_t;)?(&amp;attr_t;|&amp;name_t;)?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step    "(&amp;qname;|\*)(&amp;cond;)?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pi      "processing-instruction\((('|&amp;quot;)&amp;qname;('|&amp;quot;))?\)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comm    "comment\(\)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text    "text\(\)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nspace  "namespace::&amp;ncname;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!ENTITY last    "&amp;step;|&amp;aname;|&amp;nspace;|(&amp;comm;(&amp;pos_t;)?)|&amp;text;(&amp;pos_t;)?|&amp;pi;(&amp;pos_t;)?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xsd:schema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xsd:simpleType name="xpath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xsd:pattern value="(&amp;step;/)*(&amp;last;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8640" y="361440"/>
            <a:ext cx="86076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pact on xcap-diff &amp; pidf-diff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39440" y="1662120"/>
            <a:ext cx="86072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ommon model for applying XM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XML Schemas include patch-ops which is only a framework for patch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ontent-Types are defined according to the including schema within xcap-diff and pidf-diff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As these operations describe the model to patch the full XPath 1.0 data model node types, applications may either extend or restrict these as des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392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88640" y="1662120"/>
            <a:ext cx="969156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Purpose was to remove the overlapping parts of xcap-diff and partial-pidf which reference patch-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~XCAP PUT and DELETE semantics. Patch operations are embedded within a transported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Uses XPath 1.0 compatible sel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ombines several requests: &lt;add&gt;, &lt;replace&gt; and &lt;remove&gt; with optional data onto a single XML 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XML Schema defines only types without any targetNamespace -&gt; the elements inherit the namespace of the including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ames in location steps are fully namespace qualifi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raming document (xcap-diff, pidf-diff etc.) carries all the namespace definitions that are needed to apply the patch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dded or modified data content is also fully namespace qual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485280"/>
            <a:ext cx="860724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Issues/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itespace text node handling in &lt;add&gt; and &lt;remov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addition to above lack of XPath data model nodes: namespaces, comments and process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ck of the ability to say: I want to add these nodes immediately before/after this element that already exist within the patched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ng namespac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space axis of XPath 1.0 does the 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add sel="root" type="namespace::prefix"&gt;urn:xml:ns:something&lt;/ad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ue of “sel” selects the element where the namespace definition will be added (similar to adding an attribute with “@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move sel="root/namespace::prefix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place sel="root/namespace::prefix"&gt;urn:xml:ns:something&lt;/repla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ue of “sel” selects the namespace n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14160"/>
            <a:ext cx="860724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&lt;add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1506600"/>
            <a:ext cx="8607240" cy="59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cept attribute and namespace nodes this will always (by default) append elements, text nodes, comments and processing instructions as the last child(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add sel="roo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!-- This is a comment -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new-element a=”1”/&gt;&lt;new-element a=”2”/&gt;&lt;/ad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allows an easy handling of whitespace text nodes as well as several siblings at the sam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7960" y="132840"/>
            <a:ext cx="824076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&lt;add&gt;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4640" y="1147680"/>
            <a:ext cx="8607600" cy="62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the value of 'sel' attribute selects a single unique element from the patched 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'pos' attribute: “to” [default], “before”, “after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before” = immediate preceding sibling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after” = immediate following sibling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to” = last child(ren) node or attribute/name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'type' attribute; values: node() [default], text(), @attr, namespace::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hild element(s) or text content of &lt;add&gt; = the new/updated XML fragment(s) or values for ns/a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1160" y="132840"/>
            <a:ext cx="860724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 before and 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311120"/>
            <a:ext cx="909504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Path 1.0 defines axises: preceding-sibling and following-sibling which could be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add sel="root/elem[@a='1']" type="preceding-sibling::node()[1][self::comment()]"&gt;This is a comment&lt;/ad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ead a much simpler model using “pos” attribute can be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add sel="root/elem[@a='1']" pos=”before"&gt;&lt;!-- This is a comment --&gt;&lt;/ad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add sel="root/elem[@a='1']" pos=”after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!-- This is a new added node  --&gt;&lt;new-node a=”1”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/ad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5680" y="317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&lt;replace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1160" y="1569600"/>
            <a:ext cx="915660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one “sel” selector (must locate a unique n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st location step includes comment(), processing-instruction(“x”) and text(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place sel="root/elem[@a='1']"&gt;&lt;update/&gt;&lt;/repla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place sel="root/@a"&gt;new attr value&lt;/repla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place sel="root/namespace::prefix"&gt;urn:new&lt;/repla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place sel="root/comment()[1]"&gt;This is a new comment&lt;/repla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place sel="root/processing-instruction('foo')"&gt;bar="foobar"&lt;/repla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replace sel="root/elem[1]/text()[1]"&gt;This is the new text content&lt;/repla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