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B3A1-D74C-4F8B-AEC9-B96D5F48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05B7-6026-43A5-8C1E-B5987865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0227-2EDA-41B3-AACA-315D5A98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8D37-54B6-4942-9245-FAD3445D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F37-18E4-4D97-9F8E-DCDF0F34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1DC3-C03A-42DB-8B94-F00F18D1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169-8C8E-4FA5-BD8A-491C9623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3B10-09D5-4AEC-B387-84C792D8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5620-9975-4E8B-ACD1-97A1E3C6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204D-07B3-4DA3-A75F-D9E6A83B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CC97-5DCE-4EA2-88BB-B0335A27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D6B-85C0-4250-B00E-7377D3F1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7693-2D17-4A24-8F91-DE8750A21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ce Authorization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athan Rosen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sco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ceID as a selector for person, device an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as a selector for person, service and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rovide-all-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away from substitution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dangers of using &lt;sphere&gt; for sub-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ME type inherited from common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ormative rules about when privacy processing happens, final document must conform to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nymous case is only authenticated identities, describe how for S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back draft-ietf-sip-identity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a definitions for &lt;anonymous&gt; into common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ed rules for sub-handling, including a new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to pending causes a NOTIFY, no 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 which parts of a presence doc are always in the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tamp, basic status, contact and device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component-ID per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 to which contact URI and device ID are obfus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ea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rovide-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 #1: Blacklisting &lt;again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ks continue to want to do things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Bob and Judy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 and Aki get den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else requires confi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lists are proble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identities are easy to m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need to constantly add new rules to deal with folks who mint new id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i’s suggestion: &lt;any&gt; with domain excep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 #1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uthenticated identities match rules with no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ed identities match &lt;any-identit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 for anonymous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nymous and authenticated matches &lt;anonymous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’s it.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lists work only within a specific domain, by granting access to domain and adding exce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s todays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 #2: Glob Ma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ly proposed by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lets keep scope limited, I say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 #3: Filter-based sub-hand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to be able to say, “allow anyone to see just my basic status, but anyone else requires confirm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meaningless unless subscriber asks for basic info or more, and thus is in the territory of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 to not consider this at this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 #4: tel URI inte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6:52:14Z</dcterms:created>
  <dc:creator>Jonathan Rosenberg</dc:creator>
  <dc:description/>
  <dc:language>en-US</dc:language>
  <cp:lastModifiedBy>Jonathan Rosenberg</cp:lastModifiedBy>
  <dcterms:modified xsi:type="dcterms:W3CDTF">2005-03-07T07:19:48Z</dcterms:modified>
  <cp:revision>4</cp:revision>
  <dc:subject/>
  <dc:title>Presence Authorization Rules</dc:title>
</cp:coreProperties>
</file>