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778-BFF2-4A2B-A8C8-28C3DFA4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163-FD6D-4BA2-8EB0-9013F4D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005-E9AD-46D5-B5B1-A2B55B19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DB1-2380-46D5-8CD1-D3EA3520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F29-0A36-423B-B212-E54D7527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449-2341-4DD7-9DCD-D42D5B5E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E5E-A715-404B-B3C0-09ED9630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03C-A267-4375-AEF1-66EDF92B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2E5-C1BC-4033-90F6-1A477D78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EAB-3624-4F9B-96E2-123317CD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7D6-01E8-4CD3-B0BA-40457C8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E1B-D605-44F8-9613-15856A20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338B-CAED-4120-A9B4-2894ED721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PID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simple-rpid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ning Schulzri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. of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i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PLE - IETF 62 (March 2005) - Minneapol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83A-E56E-4F71-B57F-98F778E18E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with dat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-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“where us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-zon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-offset (simp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ce-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ed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thog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media-specific (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6) Added “unknown” elements to allow over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PLE - IETF 62 (March 2005) - Minneapol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BC9-45C9-41A2-9B7A-92609F1BAE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: fix schema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(##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type identif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nual, calendar, sensor, device, composed,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device&gt; tuple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PLE - IETF 62 (March 2005) - Minneapol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53C-67A6-4C7B-AFBF-30D6F0C9F0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06 immediately after IETF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submit CIPID and timed-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PID: all &lt;person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d-presence: can incorporate &lt;person&gt;, &lt;tuple&gt;, &lt;devic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PLE - IETF 62 (March 2005) - Minneapol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13B-959A-4704-AE15-D29B5B42EB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Hisham Khartabil</cp:lastModifiedBy>
  <dcterms:modified xsi:type="dcterms:W3CDTF">2005-03-08T03:32:15Z</dcterms:modified>
  <cp:revision>5</cp:revision>
  <dc:subject/>
  <dc:title>PowerPoint Presentation</dc:title>
</cp:coreProperties>
</file>