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085-CFEF-4C3B-BB59-FEB0E02B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B18-41E0-4BB9-BA60-5F7F1E0D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A68-4580-4D72-955C-35D9E915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D54-7749-44A7-A09E-8760090B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ECA-A519-44FE-82B9-DA3E53B3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818-C679-467E-BBDE-59DB4A43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146-4FF6-4A03-A44F-8B5F4BEB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19D-6602-4710-8935-7E6A1197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3B5-1615-4D8B-8F26-74DC4DC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331-3020-46B4-8726-7E54075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627-80D0-4E3B-B6CA-CA293279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4D7-A180-4827-8C6A-51EA068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1F25-66B7-4DF2-B0C6-C18DACA76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ce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4: Device ID 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use UUID URN with timestamp of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GRUU instance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– two UA on same device will have different instance ID, same devic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 ID may be a good service instance identifier (id attribu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f interface card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relationship of GRUU instance ID and ID’s in the data model per above, including data model instanc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stance ID term due to overlap with GRUU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is still fine, device ID can change -&gt; correlation key property and is highly coupled with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evice IDs per serv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for setting this? -&gt; separate new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-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out data and process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multiple devices, services, person with same URI/device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unique instance ID = id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for ambiguity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M, not voice is still on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tamp and note are meta-data for humans to resolv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d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9600" y="1030320"/>
            <a:ext cx="525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+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 +----------------+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+----------------+|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|                ||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|                ||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|     Person     ||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|                ||\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/|                |+ \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/ +----------------+   \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/           |            \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/            |             \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/             |              \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/              |               \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/               |                \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V                V                 V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+----------------+   +----------------+   +----------------+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+----------------+|  +----------------+|  +----------------+|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|                ||  |                ||  |                ||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|                ||  |                ||  |                ||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|    Service     ||  |    Service     ||  |    Service     ||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|                ||  |                ||  |                ||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|                |+  |                |+  |                |+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+----------------+   +----------------+   +----------------+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\              /       \   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\            /         \  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\          /           \ 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V        V             V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+----------------+        +----------------+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+----------------+|       +----------------+|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|                ||       |                ||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|                ||       |                ||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|    Device      ||       |    Device      ||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|                ||       |                ||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|                |+       |                |+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+----------------+        +----------------+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| Presentity (URI)                                                   |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+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 and note allowed for person an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rework (more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document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 independent of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e compo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, not Implicit behaviors on wa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o make to improve connec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resolutio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resent in &lt;person&gt; or in document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 like media attributes in 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 service component into pi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information – URI plus other data needed to get to the service defined by the tu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ly identifies a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 are not reach inform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ference to sparks-service-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 URI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llowed as a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/capabilities need to be applicable for all URI resolvable from the t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 URI with enumdi or no enum are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s Aki’s “available IM, not voice” as a more complex status of 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URI in &lt;contact&gt; is defined as URI for reaching the service, data-model doesn’t specify how to pop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URI to service mapping is many-to-one, URI can change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UID no longer preferred, doesn’t work well here, no alternativ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is a single individual, clarified how groups are 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how to set URI in &lt;contact&gt; - pres vs. 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is defined as anything with a set of properties – reach info, characteristics, status, relative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summarization is discussed, based on reach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1: Service Ident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ver-ending Doom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 won’t be enough to figure out to represent with a “doom icon” on the 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proposes a servic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“floor control required” prescaps enoug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del 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summ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information is ideal for that – URI plus other stuff you “have to know” to reach thi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pecs can define new reac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at enough?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want to define reach info for PTT/games – I am waiting for the draft on Po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#2: Available IM, not Au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A: basic status that is a boolean function of media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B: only indicate IM capabilitiy and set basic status to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 leaves the door open for choice A, B is allowed of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?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3: Three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ning proposes three dimensions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1: protocols and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2: interaction – is it human? Does it announce or rec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3: content – am I talking to a flight reservation system? Game so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need to model these in the data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1: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2+D3: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No action needed in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5:25:22Z</dcterms:created>
  <dc:creator>Jonathan Rosenberg</dc:creator>
  <dc:description/>
  <dc:language>en-US</dc:language>
  <cp:lastModifiedBy>Jonathan Rosenberg</cp:lastModifiedBy>
  <dcterms:modified xsi:type="dcterms:W3CDTF">2005-03-07T06:33:53Z</dcterms:modified>
  <cp:revision>12</cp:revision>
  <dc:subject/>
  <dc:title>Presence Data Model</dc:title>
</cp:coreProperties>
</file>