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2AE-1726-40FD-A970-A091D566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ADE-DC32-42A7-BAB4-8EBDD980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C01-58EF-4E00-B341-FE6EE8E4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F06-32FB-4F93-BFAC-0F01CB49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D26-EF9F-44F5-A029-C1A6B822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F75-1165-4940-B9CB-36DAA368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ECA-E02D-4672-91EE-EE8B2E94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803-EB2F-4224-9523-AC5BD9A3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E60-A14C-4E83-A755-0A7D0D30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026-C36A-409E-A143-21333651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48B-511D-471B-8D66-F867C86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BA1-D880-4E49-BDBC-DF61A9D5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A694-92D9-4244-A8E2-1F8FFDC41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have not already read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E WE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et in your registration p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do so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00 (10m) Agenda Bashing, Chair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10 (10m) Presence Data Model - Jona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20 (10m) Processing Model - Jona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30 (10m) Authorization Rules - Jona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40 (10m) xcap-diff - Jona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:50 (15m) XML Patch Operations : J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:05 (10m) PIDF Extension for Part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5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l Presence : J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:15 ( 5m) Partial Notification - A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:20 ( 5m) Partial Presence - A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:25 (35m) common-policy -  He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:00 (10m) Composing Presence Information - He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:10 (10m) Instant Message Delivery and Read Reports - His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:20 (10m) IMDN for CPIM - Eric Bu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/Administr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CAP approved: in RFC Editor’s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armor site 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hy-simple-xcap-altern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ntandre-xmpp-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-simple-cpim-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: Submission to IES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data package (9/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id,cipid,futur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-model,prescaps-ext 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RP (10/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rules (10/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-policy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-* (12/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4:38:20Z</dcterms:created>
  <dc:creator>Robert Sparks</dc:creator>
  <dc:description/>
  <dc:language>en-US</dc:language>
  <cp:lastModifiedBy>Robert Sparks</cp:lastModifiedBy>
  <dcterms:modified xsi:type="dcterms:W3CDTF">2005-08-04T09:48:13Z</dcterms:modified>
  <cp:revision>4</cp:revision>
  <dc:subject/>
  <dc:title>SIMPLE</dc:title>
</cp:coreProperties>
</file>