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BCC-E6F5-4416-AE11-B8021F9A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BB8-0FE6-4FDF-A411-E7BA69E2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F0F-FFCF-4058-8858-CD69015F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F2D-7B70-416D-B6FE-40B802AF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DD7-2C46-41ED-B09B-4A47452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D94-F0C1-47A9-A34A-338E046A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9F9-035A-424C-8BE3-11F685AA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669-7ADD-4739-AF2D-43DCFA2A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889-DFBA-4058-807C-7CCD1A94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EEA-FF77-4694-97E2-F88D384E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D79-4E00-4293-9865-C1E490C2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3CA-C40B-42AF-8508-A209C42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F692-E4CE-4FE3-8D76-9C6A2A895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the identity crisi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ft-ietf-geopriv-common-policy-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nning Schulzri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i Ni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nnes Tschofenn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onathan Rose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08E-DE3A-42A5-A2F6-EC5394CDB9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id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uthen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d mapped to authenticated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ation based on anonymous identity not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vague description in som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3480" y="1828800"/>
            <a:ext cx="371484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d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d entity="alice@example.com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d entity="bob@example.com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d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4859280"/>
            <a:ext cx="495288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ny-id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omain domain=“bar.com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xcept-domain domain="example.com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xcept-domaindomain="foo.com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any-id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4200" y="3381480"/>
            <a:ext cx="37864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d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omain domain="example.com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xcept domain=“foo.com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ident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B9C-18C2-4FD5-96FF-37F1F5D95A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uthenticated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uthenticated identities = omit &lt;identit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42900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259092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419112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&gt;= 1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0" idx="3"/>
            <a:endCxn id="51" idx="1"/>
          </p:cNvCxnSpPr>
          <p:nvPr/>
        </p:nvCxnSpPr>
        <p:spPr>
          <a:xfrm flipV="1">
            <a:off x="2666520" y="3009600"/>
            <a:ext cx="686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0" idx="3"/>
            <a:endCxn id="52" idx="1"/>
          </p:cNvCxnSpPr>
          <p:nvPr/>
        </p:nvCxnSpPr>
        <p:spPr>
          <a:xfrm>
            <a:off x="2666520" y="3847680"/>
            <a:ext cx="686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A02-EE78-453D-A1AC-505AF4CC0A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rted vs. authentic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make distinction in common-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have text on distinction, but hard to understand without reference to particular use case (SIP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: point to detailed discussion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D04-D797-4C25-A2EF-82830D7EEC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: processing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ditions are AND C1 AND C2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ndition can be OR wi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mitted, obviously not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dentity: any identity, authenticated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of each kind of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&lt;condition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&lt;identity&gt;…&lt;/identit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&lt;sphere&gt;…&lt;/spher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&lt;validity&gt;…&lt;/validit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&lt;/condition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733920"/>
            <a:ext cx="533520" cy="1981080"/>
          </a:xfrm>
          <a:custGeom>
            <a:avLst/>
            <a:gdLst>
              <a:gd name="textAreaLeft" fmla="*/ 0 w 533520"/>
              <a:gd name="textAreaRight" fmla="*/ 192600 w 5335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33"/>
                </a:lnTo>
                <a:cubicBezTo>
                  <a:pt x="10800" y="10333"/>
                  <a:pt x="16200" y="11233"/>
                  <a:pt x="21600" y="11233"/>
                </a:cubicBezTo>
                <a:cubicBezTo>
                  <a:pt x="16200" y="11233"/>
                  <a:pt x="10800" y="12133"/>
                  <a:pt x="10800" y="130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7160" y="4648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B58-02ED-40C3-971A-D355E36320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in each kind of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OR conditions within &lt;identity&gt;, &lt;validity&gt;, &lt;sphere&gt;,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defined for &lt;identity&gt;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s any of a list of id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want for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, for 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: combinatorial explo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21D-15F5-474E-99D7-55A22E820D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ty: Single individual/user/person/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one id=“alice@example.com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 tel: 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one id=“alice@example.com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one id=“bob@example.com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34290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9440" y="3886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8335-020F-4661-A19C-B61798CF42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= 1 (grou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bined with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&lt;one&gt;  --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&lt;many/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 authen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&lt;man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&lt;except domain=“example.com”/&gt;  [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&lt;except domain=“foobar.com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&lt;/man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but enumerated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&lt;many domain=“example.com”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&lt;except id=“alice”/&gt; [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&lt;except id=“bob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&lt;/man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but enumerated individuals i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0BE-1D3D-49F5-9FBE-1BA515DFB7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 U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 U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RIs that don’t have domains =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n-domain ident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URN that uses pass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1: only allow non-domain identifiers in id=“tel:123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many domain=“example.com”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except id=“tel:123”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man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oposal 2: only allow domain identifiers in &lt;many/&gt; (non-domain in &lt;one&gt;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63 - SI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046-1D36-4466-84DA-8201A9D7E0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Hisham Khartabil</cp:lastModifiedBy>
  <dcterms:modified xsi:type="dcterms:W3CDTF">2005-08-04T12:51:22Z</dcterms:modified>
  <cp:revision>9</cp:revision>
  <dc:subject/>
  <dc:title>PowerPoint Presentation</dc:title>
</cp:coreProperties>
</file>