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CA0-3E6E-4BFD-B8E5-ABC546D7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21F-896F-4F41-A9B2-F7D392CB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C09-F765-4679-B060-29EC4C20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D62-8D3A-42E4-BB4A-69284FDE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158-E3B0-451B-96D4-90F8A309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DAF-4A74-4A8D-A51C-53B702B3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A78-C1ED-4C58-B1CD-2A81C376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85F-FF93-432B-BC84-5717D6DF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3D3-1AE5-4614-8922-E109FAE9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FC4-58AE-4D11-81D1-B8D31C70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421-8FE1-4DD2-AA77-FB136F8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DF0-EB50-4E9B-B806-6C391E86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D50A-5F5C-4C7D-830E-CF263D1F532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 Delivery and Read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isham Khartab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isham.khartabil@telio.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-rosenberg-simple-messaging-requirements-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It MUST be possible for the sender of an IM to request a delivery notific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It MUST be possible for the delivery notification to be sent at an arbitrary time in the futu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delivery notification MUST be capable of indicating that the message was delivered to the intended targe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delivery notification MUST be capable of indicating whether the message was delivered successfully, or whether, when it was delivered, the recipient generated an erro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delivery notification MUST indicate the time of message deliver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delivery notification MUST indicate the specific message which was deliv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When an IM is sent to a group, there MUST be delivery notifications generated about the delivery of the IM to each group participa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MUST support recursive group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7652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1676520"/>
            <a:ext cx="609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6765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2438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4400" y="20937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644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91120" y="23004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267080" y="3276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88240" y="2909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35053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11520" y="31384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267080" y="380988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87880" y="34434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990360" y="4038480"/>
            <a:ext cx="32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11160" y="3672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572000"/>
            <a:ext cx="32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4760" y="42274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477828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91480" y="44337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olution 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7652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1676520"/>
            <a:ext cx="609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67652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438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14400" y="20937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025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91120" y="26812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3429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88240" y="30621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1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990360" y="28195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11520" y="24526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990360" y="3719520"/>
            <a:ext cx="32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11160" y="33526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4100400"/>
            <a:ext cx="32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14760" y="39085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ntent-type: Message/CP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rom: Alice &lt;im:alice@example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: Bob &lt;im:bob@example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ssage-ID: 34jk324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ceipt-Request: positive-delivery, negative-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ntent-type: text/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ntent-length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14800" y="15238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ntent-type: Message/CP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om: Bob &lt;im:bob@example.co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: Alice &lt;im:alice@example.co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ntent-type: message/status-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ntent-Disposition: conf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ntent-length: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&lt;status-repor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&lt;message-id&gt;34jk324j&lt;/message-i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&lt;recipient-uri&gt;bob@example.com&lt;/recipient-ur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&lt;type&gt;delivery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&lt;status&gt;200&lt;/statu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&lt;note lang="en"&gt;The message was successfully Delivered&lt;/no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&lt;/status-report&gt;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16002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ent-Disposition header in the report. Should it be on SIP/MSRP level or message/cpi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o need to discuss technical issues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the WG interested in solving such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22:29:42Z</dcterms:created>
  <dc:creator>Hisham Khartabil</dc:creator>
  <dc:description/>
  <dc:language>en-US</dc:language>
  <cp:lastModifiedBy>Hisham Khartabil</cp:lastModifiedBy>
  <dcterms:modified xsi:type="dcterms:W3CDTF">2005-08-03T23:01:18Z</dcterms:modified>
  <cp:revision>2</cp:revision>
  <dc:subject/>
  <dc:title>IM Delivery and Read Reports</dc:title>
</cp:coreProperties>
</file>