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FDF-7F01-4EE7-AC75-F9E911A3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7D6-3988-49DA-9083-31177DE2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9129-9753-4AD0-BFDF-BBB5F035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6595-4BDF-4CF5-B7EB-A279A3E6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6F45-6507-4F6A-AD63-A1A6F314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AC5-7D2C-461C-9061-2140BFE3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D12B-DD66-4ABE-A871-9728D633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CD3-7826-43EF-9E11-FD442E15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9FE-615E-4016-94C6-7EB6BADB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4AA8-BF9C-4976-8F49-E212D275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9D52-09CC-468A-98A8-24183146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76F-928B-4A09-BA40-1AF8F2F7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4D05-9F54-4E35-B5C6-163313D08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nt Message Delivery Notification (IMDN) for Presence and Instant Messaging (CPIM)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-burger-simple-imdn-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Bur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burger-simple-imdn-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36C6-9E5B-47A2-BD57-E400D6095D1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Issue 2: Notification-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ication for B2BUA State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points Report Directly to 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Used by M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: MDN is SPAM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Require Sender Authentication and UAS Trust of B2BUA (transitive via sip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, Use im-reports Mechanism of B2BUA Relaying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Infinite State Storage at B2B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al: Use im-reports Mechanism With Local Policy Timeout Plus “No More Reports Coming” Protocol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burger-simple-imdn-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617-6B99-411E-BD97-297C91D926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Issue 3: Human Re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DN is multipart/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art is human readable “what happened to your messa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part is machine readable error cod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we want someth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re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dma does not understand XML or hea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burger-simple-imdn-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6FE-7ED8-4D3E-889E-35182ABBA2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en Issue 4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port Enco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Is Cool.  W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ers Work.  Bo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ers Easy to Extend and Parse.  W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Parser Validates Tags. 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PIM Processors MUST Parse and Process Headers.  Excell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PIM-Transported Messages are In XML. N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ers Have Namespaces, Too (CPIM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al: Use Headers, not XML (IMDN-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burger-simple-imdn-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265-7D99-4842-B114-0E877ED3DF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to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 Er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do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is really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&amp; Privacy From Notification-To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got to specify report type (over deletion from IMDN-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burger-simple-imdn-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8869-CE87-4ECF-B4E4-8E5786A6AD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for Presentation, Unles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burger-simple-imdn-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9249-29B6-4A15-BBB7-52E4B21CC9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: IMDN vs. im-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anation (and use case) for globally unique Message-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Failure Report Request: Only Meaningful Report Request is “rea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onfusion between REPORT and IM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-Dis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DN’s Can Have Message-ID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get 485, so no similar mechanism; do have other states, though (processed, expanded, deni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DN Provides Privacy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2BUA Disposition States: adds “processed”, “expanded”, “deni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-to-End Integrity of Re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s Get Nested, so S/MIME Can 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MULTIPLE REPORTS FOR SINGLE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burger-simple-imdn-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0172-C9C3-4966-8838-B8E6FB7696C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Expansion in im-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work as spec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ipient-uri needs to explicitly be end target U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might be &lt;read&gt;, others might be something e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ossibility for end-to-end integrity; all from B2B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burger-simple-imdn-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23A7-F6DA-4347-AB9D-BB526038145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D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otifications Handled by OK (p2p) and REPORT (MSR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Receip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Notification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ipient UAS Received Message, But Did User Actually See/Hear/Feel Mess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Receipt”, or other dis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burger-simple-imdn-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D9D-498C-4B7E-BC86-782F13FB94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Mail Approach: Message Delivery Notification (MD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sage “Delivered”, i.e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Presentation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 Non-Repudiation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gular Messag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Message Transport and Delivery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Read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Read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burger-simple-imdn-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AD0F-2E77-4D07-BB8D-1665E6B09D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 Marks Message for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Becomes Available to the Recip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y Expanded Through Recursive List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ipient Disposes of the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, Delete,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ipient UA Sends Message Disposition Notification to S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burger-simple-imdn-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0F5-43CA-42ED-A37D-4970C9CA62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2BU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, Recipient is Not Hu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B2BUA Situations for CPI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teway to “foreign” IM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Interpretation of “Read Report” Might Not Match Protocol 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teway may “read” message to forwar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expects report to relate to final dest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burger-simple-imdn-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E3F8-87B8-4CFB-820A-23E993A15A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isposi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ing for a Failed Delivery Report Does Not Make S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y failure report only happens on “happy path”: UAS generates re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likely to have no report for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AS failure, UAS deciding to not send IMDN, network failure all look identical, and more likely than “success” being the absence of a failure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 One and Only One Reporting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burger-simple-imdn-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CDAE-C065-41C5-A653-6FEEE4CE42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m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DN and im-report Have Similar Fl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im-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Data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ence of Header / Empty Value” Means Explicit Report Sup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2BUA Drives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IMDN (High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State Request to “Rea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 Expansion / Gateway 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Privacy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 Processing Allows UAS to Explicitly Reject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-to-End Repor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burger-simple-imdn-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0E9-3B04-406D-922F-22605FA4BD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Issue 1: B2BUA Rep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al #1: Punt. Delivery is to B2BUA. IMDN indicates “process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 P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al #2: Always Assume User Wants Final Recipient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s Most User Expec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al #3: Allow User to Indicate Which They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isely Matches User Expec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Burden on U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tty Easy for U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DN Today Uses Proposal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burger-simple-imdn-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F8D8-F658-45A3-A55C-74004661C0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en Issue 1a: Consolidated Repor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List Expansion, User Wants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ngle Report With All Deliv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y Reports for Each Recip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DN Today Is Proposal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ning Towards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m-report mechanism doesn’t wo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al #1: Per-Recipient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Implementation at UAS, B2B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od Potential at U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&amp; Privacy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al #2: B2BUA Consolidates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2BUA Collects IMDNs from Recip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Long to Wait for IMD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bout Late IMD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-burger-simple-imdn-01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957D-48E1-4F81-AFEF-B483ABBE4FF8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9T17:22:43Z</dcterms:created>
  <dc:creator>Eric William Burger</dc:creator>
  <dc:description/>
  <dc:language>en-US</dc:language>
  <cp:lastModifiedBy>Eric Burger</cp:lastModifiedBy>
  <dcterms:modified xsi:type="dcterms:W3CDTF">2005-08-04T10:37:39Z</dcterms:modified>
  <cp:revision>14</cp:revision>
  <dc:subject/>
  <dc:title>Instant Message Delivery Notification (IMDN) for Presence and Instant Messaging (CPIM) Messages</dc:title>
</cp:coreProperties>
</file>