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933-FA6C-42AE-B14F-97D23284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9CF-56F5-4465-BE59-430D5DC6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6C9-DEAF-4043-8A23-0DA75F8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F9C-A327-435C-A8E2-04DD4EB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EFA-9D50-48CD-A341-9300F85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D26-C837-4846-891D-AFD6F0B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9E2-B928-4DA6-8091-D5FF469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BEB-C545-42D2-BFEC-1AD6F65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DA9-83EB-4F5C-A7C9-EFD6A813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CB5-3709-47C2-BE05-F2ED83A5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0FF-D0FA-4C39-BCB5-68122674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319-F88D-4549-89CE-9E36085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706-90DE-4A0D-B551-1655DD969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ce Composition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-schulzrinne-simple-composition-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ning Schulzri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. of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s@cs.columbi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person&gt; me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make only safe merging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resent uncerta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activities&gt; are often comp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&lt;place-is&gt;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ck least-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 me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parat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ion of tuples with same UR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ability mer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(best case) – selectable by CallerP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(at least get, regardless of proxy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AOR that represents multipl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echanism to create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ce me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+merge capabilities into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 mer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multiple (cleaned-up) &lt;person&gt;s (and maybe dev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notion of separat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into one &lt;pers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to process and 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(meta)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labeling – which draft ven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mposition polic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be able to do simple selection operations (“discard old &gt; 3600 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 = combines multiple presence or event sources into on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information: stale, contradictory, red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information (e.g., new composite servic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implifying)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IDF/RPID, but probably applicable to other even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presentity, 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provides maximum information set for late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prefaced by general transformation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pres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 triggered by new data (PUB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triggering by rul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er A’s permissions increased at 9 p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ple-level selection or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also trim some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-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instances of the same elemen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tivities&gt;&lt;sleeping/&gt;&lt;/activities&gt; {from S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tivities&gt;&lt;steering/&gt;&lt;/activities&gt; {from S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lement that combine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tivities&gt;&lt;sleeping/&gt;&lt;steering/&gt;&lt;/activitie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presenc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manually a brief time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correct when entered, but dec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cale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devi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by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, type of location, activit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s = GPS, acceleration sensors, PIR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ther prese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nformatio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ce’s home PC reporting while Alice is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di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don’t record all obligations in their cale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data = sensor failure OR nothing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ng information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elements or acros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, probable, or undetec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element = two different locations for sam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iffering activities or location types do not automatically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: diverging privac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e: “sleeping” + “steer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81080"/>
            <a:ext cx="11430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743200"/>
            <a:ext cx="1143000" cy="609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057400"/>
            <a:ext cx="838080" cy="838080"/>
          </a:xfrm>
          <a:prstGeom prst="flowChartOr">
            <a:avLst/>
          </a:prstGeom>
          <a:solidFill>
            <a:srgbClr val="00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25720" y="316080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1981080"/>
            <a:ext cx="1295280" cy="990720"/>
          </a:xfrm>
          <a:prstGeom prst="flowChartManualOperation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3"/>
            <a:endCxn id="58" idx="2"/>
          </p:cNvCxnSpPr>
          <p:nvPr/>
        </p:nvCxnSpPr>
        <p:spPr>
          <a:xfrm>
            <a:off x="1676160" y="2285640"/>
            <a:ext cx="6102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 flipV="1">
            <a:off x="1676160" y="2476080"/>
            <a:ext cx="6102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60" idx="1"/>
          </p:cNvCxnSpPr>
          <p:nvPr/>
        </p:nvCxnSpPr>
        <p:spPr>
          <a:xfrm>
            <a:off x="3123720" y="2476080"/>
            <a:ext cx="893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943600" y="1981080"/>
            <a:ext cx="914400" cy="990720"/>
          </a:xfrm>
          <a:prstGeom prst="flowChartSummingJunction">
            <a:avLst/>
          </a:prstGeom>
          <a:solidFill>
            <a:srgbClr val="00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0" idx="3"/>
            <a:endCxn id="64" idx="2"/>
          </p:cNvCxnSpPr>
          <p:nvPr/>
        </p:nvCxnSpPr>
        <p:spPr>
          <a:xfrm>
            <a:off x="5051520" y="2476080"/>
            <a:ext cx="89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03560" y="3389400"/>
            <a:ext cx="10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81080"/>
            <a:ext cx="1295280" cy="990720"/>
          </a:xfrm>
          <a:prstGeom prst="flowChartManualOperation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6"/>
            <a:endCxn id="67" idx="1"/>
          </p:cNvCxnSpPr>
          <p:nvPr/>
        </p:nvCxnSpPr>
        <p:spPr>
          <a:xfrm>
            <a:off x="6858000" y="2476080"/>
            <a:ext cx="435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ity 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recent 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cent or ignore old (&gt;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rustworthy 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reported current", "measured device information", "measured by sensors", "reported scheduled", and finally "derive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t 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tems with no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by 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” &gt; “tu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isham Khartabil</cp:lastModifiedBy>
  <dcterms:modified xsi:type="dcterms:W3CDTF">2005-08-04T10:15:40Z</dcterms:modified>
  <cp:revision>9</cp:revision>
  <dc:subject/>
  <dc:title>PowerPoint Presentation</dc:title>
</cp:coreProperties>
</file>