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2B4A-249B-45D6-A431-AE2D5A74D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24E9-3CAA-4737-BA4C-BB8FC0DE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D7A7-F7D7-4DE6-883A-E9DEA21D7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996B-84AD-4FD1-A836-00519444A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13EB-8798-4197-84E7-48DADA9E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826D-FB2E-48DF-833F-24D0F664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BC31-F336-4E9D-A7FD-0B5F539C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88A0-1F5D-43F1-BBF0-7E351DFB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DADD-DDFB-455F-9E32-244C6F6A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A4FA-D69E-4B7D-9D2D-1A84FF0A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E987-1F20-471C-B5F6-178F8AF4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9A31-EB02-43D3-96B3-78346078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6852-695A-475B-9D39-6A14E6369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ce Data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nathan Rosenbe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sco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 alignment with RPID-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create 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expectation of validation on rece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be prepared to receive invalid 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ANA regist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status&gt; removed from &lt;device&gt; and &lt;pers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still discu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information follows RFC3840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ology change; instance -&gt; ocur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occurrence ID construction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UID 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ices with no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updated and valid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spaces and exten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reuse a namespace if its parent is a le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 1: UUID for Ph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a device without a MAC address construct a UUI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we care, actual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UID has several ver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sion 1: time 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M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sion 3/5: name 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namespace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sion 4: Randomly gene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: recommend version 4 for 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 2: Alia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 doesn’t really talk about aliases and their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p:joe@exampl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p:j.smith@exampl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as = IMS public 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a paragraph discu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gest its just a character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define any actual attribute for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 3: Schema design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Until vs. sinceUnt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PID defined type as “fromUnti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alue of the attributes are “since” and “unti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al: align schema name with actual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c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a global type in common sch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efined as an element tw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P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al: global element inst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 4: PIDF-LO Inte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spec somewhere that describes how pidf-lo ge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model discusses location gener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d to keep formal definition of PIDF-LO encapsulation out of data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or re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ed to WG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4T00:47:16Z</dcterms:created>
  <dc:creator>Jonathan Rosenberg</dc:creator>
  <dc:description/>
  <dc:language>en-US</dc:language>
  <cp:lastModifiedBy>Jonathan Rosenberg</cp:lastModifiedBy>
  <dcterms:modified xsi:type="dcterms:W3CDTF">2005-08-04T00:53:41Z</dcterms:modified>
  <cp:revision>2</cp:revision>
  <dc:subject/>
  <dc:title>Presence Data Model</dc:title>
</cp:coreProperties>
</file>