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2F4-C99B-4EFF-AC69-99EE6D9F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C56-0B5E-42CF-AE2F-9B1D000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0A8-C051-497A-9D16-2255EEB6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2CA-C871-4643-A07F-083D3DB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6AA-04F5-4C19-A8ED-FADF8732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8FA-1656-4015-86EC-B3FF05D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F6E-F53B-4512-A535-4FF4706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2FF-71DB-4806-8CE2-5EEFF42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2CF-7FDD-44D9-AD97-C588C4B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B09-E459-4EB1-A2DA-69F3B0D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D16-7557-47F5-B4F8-EBFA72E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562-6E38-498C-A991-3F4223A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BBAA-8462-45F3-B48E-7354B0F0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ce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“leftover” text from old data model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a logical model of a presence serv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igorously define operations like composition, privacy filtering, 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scope of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pdates since Novem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revs just “keepali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open issues and many questions on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st comments, how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not been prodding th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dormant until existing “almost done” work is all approved and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if we want to re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orm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REALLY understand the requirements for composition y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real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0:54:27Z</dcterms:created>
  <dc:creator>Jonathan Rosenberg</dc:creator>
  <dc:description/>
  <dc:language>en-US</dc:language>
  <cp:lastModifiedBy>Jonathan Rosenberg</cp:lastModifiedBy>
  <dcterms:modified xsi:type="dcterms:W3CDTF">2005-08-04T01:17:34Z</dcterms:modified>
  <cp:revision>2</cp:revision>
  <dc:subject/>
  <dc:title>Presence Processing Model</dc:title>
</cp:coreProperties>
</file>