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79B73-3482-4B15-955E-5C4092C41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42BBD-0049-42E3-A410-DA5468E6A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03195-6828-43BA-868E-BE7DDF618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49028-7C44-486D-A625-956C03CB0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F3092-1A50-4F1F-9F6E-EED014E53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A0F76-1222-47B8-A7D9-27D60102E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FC21C-5F29-478D-8154-876FC85C7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5FF6C-9938-44C1-9B55-B8F1D4DE8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88A9F-0403-4363-822A-01DDB5D18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2D7BC-EB71-4393-ADD6-DD298D838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E1A95-3340-4665-8203-A70D0DDC8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18EFB-31AB-412E-B191-EC3F29305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65A39-C0D5-4B76-8D17-5CB012AEFB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sence Author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nathan Rosenber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isco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n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ignment with common policy in terms of ident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ust defines the type of identity for each SIP authentication mechani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onymous requests mapped to unauthentic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moved process-model dependen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vagueness in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ere determ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I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there are multiple docs for a presentity, and value of sphere is same in all those in which it is present, use th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there is no sphere, or any inconsistent sphere, sphere isn’t defi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d sche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moved component-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d for obfuscating conta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o complic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en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ocked on common poli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posal: WGLC once revised based on common poli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04T01:22:54Z</dcterms:created>
  <dc:creator>Jonathan Rosenberg</dc:creator>
  <dc:description/>
  <dc:language>en-US</dc:language>
  <cp:lastModifiedBy>Jonathan Rosenberg</cp:lastModifiedBy>
  <dcterms:modified xsi:type="dcterms:W3CDTF">2005-08-04T01:23:08Z</dcterms:modified>
  <cp:revision>1</cp:revision>
  <dc:subject/>
  <dc:title>Presence Authorization</dc:title>
</cp:coreProperties>
</file>