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B0A-56B8-499B-B403-76DACFC0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DA8-DA2A-4C8C-9672-ECA89CE0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EEE-0660-4516-BD71-4FB9657A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ED5-801E-45C5-8F81-2E447478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C4C-C7D4-4E8B-A581-E33D8EC3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2F9-799E-4E50-BA68-269CFA4D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997-9602-47B8-BD5C-5FCB3BC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49D-10F2-4AD1-B25E-FA401D3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DC3-6A0E-44F7-99A2-5C80882B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5E8-BA6C-4673-874B-6DB4EDCA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CB7-E929-43C6-A58E-D0B9E35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B42-4C1B-4018-B4B0-E48C44B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D43D-1A46-48D3-8B02-850E936B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CAP D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usage and reference to patch-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n xcap “change l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ange is specified by the method, URI and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as C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dd and remove entir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ignal that a document HAS changed, but not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onveys old and new e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clean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but need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many documents blocked on th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CAP list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CAP a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DF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: review followed by WG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1:26:08Z</dcterms:created>
  <dc:creator>Jonathan Rosenberg</dc:creator>
  <dc:description/>
  <dc:language>en-US</dc:language>
  <cp:lastModifiedBy>Jonathan Rosenberg</cp:lastModifiedBy>
  <dcterms:modified xsi:type="dcterms:W3CDTF">2005-08-04T01:27:51Z</dcterms:modified>
  <cp:revision>2</cp:revision>
  <dc:subject/>
  <dc:title>XCAP Diff</dc:title>
</cp:coreProperties>
</file>